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03A-1756-4755-80C7-2A6B4CB7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732-7574-4A3A-82CC-5134A419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383-B785-41E0-B7B9-C43CFA65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B17-81B0-4DD1-A652-36E2C591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BC7-8F33-44C4-BAF8-6A5FEE8C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55DD-EA64-4D37-AFE9-5F212265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FF35-9465-4267-B692-79437E63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27FF-245E-48BC-80E5-A4FA834C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5D10-BDA5-4D50-A8C2-199B1B4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43A-13B0-43B8-8990-C4D6EC35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6851-FAD5-49B2-A8C5-5942C9D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212-F1FE-413D-A910-6FF950A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C631-00CC-4270-A93B-A2C4186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08B-8218-438F-A475-42CEFCA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A3D9-AEA4-4D4A-9E84-9CB9D6A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648-20FA-4415-86BE-753B7F2F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8D24-0532-4196-BF9F-009E8F21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93F17-9DF0-4F59-B73D-37F0821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60C26-7BAA-46E5-B7F4-D0E7A62D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9FCEF-D6AF-44D4-B866-780F4B4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4B4C8-622B-4E90-BFC8-160B9CA6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7FC0C-558F-4D04-8738-FDCB37E8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D51-C795-4C8E-A463-5C4EBD13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9A035-797C-4BF7-B1EF-3030BF6D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32016-C277-4AC9-8AEF-5C61C57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DA550-53BD-4371-9DB6-13A9AB9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87931-1444-4ACC-B22D-48F7A6B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5908A-52BA-4A44-8609-1F0A281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93154-1914-40D5-B583-6AE637C8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FBFA0-706E-4F18-89CA-FCC4709C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8B9D-B1E3-47B7-93E5-5580CCD8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DDA2-387C-4CD8-AB2C-DD4FBFA6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476D-E1AA-4752-BF4F-2BD7E144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026-C974-41E3-B2DF-4C20407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709C-2404-4E07-9131-08895389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1ADD-E0BD-48CA-960B-D4860555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B6A1-299C-4983-840C-A3F06D2A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E5BA-CB7F-4353-8A28-83ADE23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8A26-E2E7-4190-8CC1-5E803428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CF92-AA8B-4313-89EA-4B26403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F839-7A02-438C-B8E2-CC9A3439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55AF2-0E29-4AF0-AAE0-8A3BBCE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6B6C-21DB-4D6D-965F-7DF9B5D9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645-DC63-4F6F-833B-5DE8D936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58D-9184-4C85-8AFA-D9B7386C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A67-8424-41BB-9990-3CD96CE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401-B50A-43D7-8D2C-8F2BA32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AB3-EEAF-4672-ABA1-7645BCD9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DD3-5FD0-4961-BB9B-CA6593477863}" type="slidenum">
              <a:rPr b="0" lang="id-ID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12C-10E3-4935-83F0-4FDECB166C8C}" type="slidenum">
              <a:rPr b="0" lang="id-ID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2BBE-6688-4D55-9D12-0C99193660CC}" type="slidenum">
              <a:rPr b="0" lang="id-ID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0C47-DC8E-48EA-A3A9-043ECA6974DF}" type="slidenum">
              <a:rPr b="0" lang="id-ID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urriculum%20Vitae%20Sample.pdf" TargetMode="External"/><Relationship Id="rId2" Type="http://schemas.openxmlformats.org/officeDocument/2006/relationships/hyperlink" Target="file:///Resume%20Sample.rtf" TargetMode="External"/><Relationship Id="rId3" Type="http://schemas.openxmlformats.org/officeDocument/2006/relationships/hyperlink" Target="file:///Resume%20Sample.rtf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Trebuchet MS"/>
              </a:rPr>
              <a:t>Curriculum Vita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4971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100" spc="-1" strike="noStrike">
                <a:solidFill>
                  <a:srgbClr val="424456"/>
                </a:solidFill>
                <a:latin typeface="Georgia"/>
              </a:rPr>
              <a:t>Writing for Professional Purpose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424456"/>
                </a:solidFill>
                <a:latin typeface="Trebuchet MS"/>
              </a:rPr>
              <a:t>Curriculum Vitae..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0" indent="-10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Georgia"/>
              </a:rPr>
              <a:t>... </a:t>
            </a: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derives from Latin’s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Curriculum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course) and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tae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life)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course of one’s life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- Eric Dani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A Curric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ulum Vitae summarize one’s life in terms of academic background, achievements, skills, and capabilities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In other words, a short and condensed biography: all the employer needs to know about prospective employee, you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V give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basic information 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about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you, your education, work experience, skills and achievements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id-ID" sz="2200" spc="-1" strike="noStrike" u="sng">
                <a:solidFill>
                  <a:srgbClr val="000000"/>
                </a:solidFill>
                <a:uFillTx/>
                <a:latin typeface="Georgia"/>
              </a:rPr>
              <a:t>while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 a c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ver letter explain 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why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 you want the job and what makes you the right person for it.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 Cover letter complements and adds information on your CV, </a:t>
            </a:r>
            <a:r>
              <a:rPr b="0" i="1" lang="id-ID" sz="2200" spc="-1" strike="noStrike" u="sng">
                <a:solidFill>
                  <a:srgbClr val="000000"/>
                </a:solidFill>
                <a:uFillTx/>
                <a:latin typeface="Georgia"/>
              </a:rPr>
              <a:t>not</a:t>
            </a:r>
            <a:r>
              <a:rPr b="0" i="1" lang="id-ID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repeats i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0800" indent="-10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424456"/>
                </a:solidFill>
                <a:latin typeface="Trebuchet MS"/>
              </a:rPr>
              <a:t>Cont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Name and Addres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Educa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sserta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llowships and Award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pared to Teach or Areas of Research Interest or Areas of Specialization or Areas of Competence/ Expertise or Principal Research and Teaching Interest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ing Experienc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earch Experienc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Publications and Presentation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Works in Progres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Related Professional Experienc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Language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References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ssertation Abstra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424456"/>
                </a:solidFill>
                <a:latin typeface="Trebuchet MS"/>
              </a:rPr>
              <a:t>Planning a Solid CV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CV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hould look good. As with an interview - initial impressions are vital so it should look attractive even before someone starts to read the detail. Take time to plan the layout and make it individual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f you are sending your CV via e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il make sure you use a common typeface - some readers will not 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recognize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the more esoteric scripts!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f you are posting your CV use good quality paper - your CV will then not only look good but feel good! Use the same paper for your covering letter and a large envelope (A4 preferably) to avoid folding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ake the most of using headings and sub-headings to draw attention to your main selling points.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void large chunks of text - they look indigestible and tend to be ignored. Break it up with sub-headings or bullet point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07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 space wisely - allocate more space to more important item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information should be very readily accessible - put the most important points you wish to be noticed in the most obvious positions to grab atten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and education should be listed in reverse chronological order – the most recent at the top of the lis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pdate and change your CV as necessary. Bear in mind the job you are applying for and change the emphasis of the information accordingly e</a:t>
            </a: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a Solicitors firm will be interested in the grades and subjects of your law degree but this will not be so relevant to a publishing company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n't include information you don't want a company to know about e</a:t>
            </a: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oor grades, brushes with the Law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 companies appreciate a </a:t>
            </a:r>
            <a:r>
              <a:rPr b="0" lang="id-ID" sz="2000" spc="-1" strike="noStrike">
                <a:solidFill>
                  <a:srgbClr val="000000"/>
                </a:solidFill>
                <a:latin typeface="Georgia"/>
              </a:rPr>
              <a:t>funny or amusing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V but this might go down well when applying to some advertising agenci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ke sure you send your CV with a good covering lette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Curriculum Vitae</a:t>
            </a:r>
            <a:r>
              <a:rPr b="0" i="1" lang="id-ID" sz="4000" spc="-1" strike="noStrike">
                <a:solidFill>
                  <a:srgbClr val="424456"/>
                </a:solidFill>
                <a:latin typeface="Trebuchet MS"/>
              </a:rPr>
              <a:t> v. </a:t>
            </a:r>
            <a:r>
              <a:rPr b="0" i="1" lang="id-ID" sz="4000" spc="-1" strike="noStrike" u="sng">
                <a:solidFill>
                  <a:srgbClr val="67afbd"/>
                </a:solidFill>
                <a:uFillTx/>
                <a:latin typeface="Trebuchet MS"/>
                <a:hlinkClick r:id="rId2"/>
              </a:rPr>
              <a:t>R</a:t>
            </a:r>
            <a:r>
              <a:rPr b="0" i="1" lang="id-ID" sz="40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3"/>
              </a:rPr>
              <a:t>ésumé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 Curriculum Vitae (CV) resembles a resume in many ways, but is more specifically focused on academic achievement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70640" indent="-170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 CV summarizes educational and academic history, and may include details about teaching experience, publications (books, articles, research papers, unpublished manuscripts, or book chapters), and academic honors and award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70640" indent="-170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 a CV rather than a resume for teaching or research opportunities, applying for fellowships or for further academic training.  Some research positions in industry may also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efer a CV rather than a resume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170640" indent="-170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V’s are frequently longer than resumes, since the emphasis is on completeness rather than brevity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424456"/>
                </a:solidFill>
                <a:latin typeface="Trebuchet MS"/>
              </a:rPr>
              <a:t>CV Samp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eorgia"/>
              </a:rPr>
              <a:t>Sample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eorgia"/>
              </a:rPr>
              <a:t>Sample 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eorgia"/>
              </a:rPr>
              <a:t>Sample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424456"/>
                </a:solidFill>
                <a:latin typeface="Trebuchet MS"/>
              </a:rPr>
              <a:t>Referen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What is a CV? (2008), retrieved September  25, 2011 from http://web.mit.edu/career/www/guide/cv.pd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The Curriculum Vitae: General Guidelines (2000-2011), retrieved September 25, 2011 from http://www.exeter.ac.uk/employability/cvcreator/guidelines.php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Georgia"/>
              </a:rPr>
              <a:t>CVs (2011), retrieved September 25, 2011 from http://www.spunout.ie/health/Work/CVs/CV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5:57:26Z</dcterms:created>
  <dc:creator>butterscotch</dc:creator>
  <dc:description/>
  <dc:language>en-US</dc:language>
  <cp:lastModifiedBy>butterscotch</cp:lastModifiedBy>
  <dcterms:modified xsi:type="dcterms:W3CDTF">2011-09-29T02:31:29Z</dcterms:modified>
  <cp:revision>33</cp:revision>
  <dc:subject/>
  <dc:title>Slide 1</dc:title>
</cp:coreProperties>
</file>